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9.pct" ContentType="image/x-pict"/>
  <Override PartName="/ppt/media/image1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pct" ContentType="image/x-pict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6.pct" ContentType="image/x-pict"/>
  <Override PartName="/ppt/media/image22.pct" ContentType="image/x-pict"/>
  <Override PartName="/ppt/media/image2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82D8-B594-4DDC-95B7-245FC83A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9C0F-D832-4F42-A00D-1D66CE237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ACD-307C-4A1F-9893-96CF9ED52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41F-EC67-40C1-A0CE-50B417DFF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3870-6EE5-4E6F-A443-5229FBFCB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5E6-3AE0-410B-B471-836B5ECD2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C80-E143-47EA-A340-E4318751F8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6E5D-CEEE-4F9E-B6A2-39DE0A74E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you might already know what you want to do but most people don’t decide until later in life.  You will probably have _____different jobs in your lifetime.  We are preparing you for jobs that don’t even exist.  That’s why it’s important to learn skills necessary for all kinds of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DD8-8444-4687-BDCB-66363E9EC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what they want to do and next slide what they like to do and add ideas to wallw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9260-125A-4142-AB63-8F30B60FE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allw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7294-84BF-4F81-8576-D19D445C41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 lifelong learner- to be successful in education jobs teachers and trainers must continue to lear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642C-9835-4E87-A282-AE8D836C40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862-BCF2-4C1C-B847-7E041C709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D1CD-376F-4812-BF44-1F025FF9A1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D715-7E94-43F5-8B7A-3B7E4E52E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D36-FB01-48CC-849D-77E186EE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E62-7902-452A-A1B3-A08E592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4B4-679E-470B-B4CD-D29375F9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79E-1273-4AD0-943E-8B1EB350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FA5-CA94-459F-8053-18E1C0A1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6A69-C095-4D84-AA91-8AF0618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241-AD5A-48FF-AEC5-FB3242D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84B5-4696-4182-9DB5-5866D698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C1B-ED4C-4A63-A593-E59C4D6B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704-7FDC-4D60-B866-8C9B3F1D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F9A-0FF0-49F1-92D8-D90D586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DFD-7D20-4A86-9A21-D4CD8B6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327B-12E3-4C4C-88AD-8F0BB9C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273-A826-4260-B751-DF2C7F9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E7C-13BA-4583-AA53-C9E5F6D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5474-7325-4DF9-A1AE-0795F649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A231-04D0-47B7-BAB1-E385708A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E20-D719-4675-AC8A-1C264B2A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978-AB26-4FC7-B115-96063EED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E3E-1DF4-417E-B282-DC318E8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B89-7F17-48E2-8A44-83EFD1D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2A4-533F-4413-BB0D-2A309CB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580-1982-4869-BFB6-AC0B2D5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52F-37F3-4787-9931-B748FB5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8D9-5B3C-477F-846E-38813A6752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3F0-9F71-4ADC-A979-380F38CC7B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image" Target="../media/image8.jpeg"/><Relationship Id="rId4" Type="http://schemas.openxmlformats.org/officeDocument/2006/relationships/image" Target="../media/image9.pct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ducation Careers:</a:t>
            </a:r>
            <a:br>
              <a:rPr sz="4400"/>
            </a:b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ve What You Do….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7" descr="MPj0398817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4572000" cy="39196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952880" y="4343040"/>
            <a:ext cx="3353040" cy="1219320"/>
          </a:xfrm>
          <a:prstGeom prst="rect">
            <a:avLst/>
          </a:prstGeom>
          <a:solidFill>
            <a:srgbClr val="a3c145"/>
          </a:solidFill>
          <a:ln w="76320">
            <a:solidFill>
              <a:srgbClr val="9966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Lu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al Technology Consul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609480" y="3886200"/>
            <a:ext cx="8305920" cy="2286000"/>
          </a:xfrm>
          <a:prstGeom prst="rect">
            <a:avLst/>
          </a:prstGeom>
          <a:solidFill>
            <a:srgbClr val="ffff99"/>
          </a:solidFill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arly Training for Careers in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“College Prep” High School Courses: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Science Classes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th hands-on laboratory train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Math Class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Computer Cl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English Cl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Tahoma"/>
              </a:rPr>
              <a:t>In High School, build the skills needed t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Work effectively as the member of a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te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Carefully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analyze</a:t>
            </a: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 and solve problems, based on known facts or 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Clearly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communicate</a:t>
            </a: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 the results of your work (written and verba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6" descr="MCj03983550000[1]"/>
          <p:cNvPicPr/>
          <p:nvPr/>
        </p:nvPicPr>
        <p:blipFill>
          <a:blip r:embed="rId1"/>
          <a:stretch/>
        </p:blipFill>
        <p:spPr>
          <a:xfrm>
            <a:off x="6553080" y="2743200"/>
            <a:ext cx="2208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ducation &amp; Training for 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areer in the Life Science Industry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1" name="Picture 22" descr="MPj04317430000[1]"/>
          <p:cNvPicPr/>
          <p:nvPr/>
        </p:nvPicPr>
        <p:blipFill>
          <a:blip r:embed="rId1"/>
          <a:stretch/>
        </p:blipFill>
        <p:spPr>
          <a:xfrm>
            <a:off x="304920" y="380880"/>
            <a:ext cx="820440" cy="71460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42" name="Rectangle 26"/>
          <p:cNvSpPr/>
          <p:nvPr/>
        </p:nvSpPr>
        <p:spPr>
          <a:xfrm>
            <a:off x="228600" y="1600200"/>
            <a:ext cx="1523880" cy="11430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plo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2514600" y="1447920"/>
            <a:ext cx="205740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Certificat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514600" y="2286000"/>
            <a:ext cx="205740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AS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1905120" y="3276720"/>
            <a:ext cx="2361960" cy="76176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helo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33"/>
          <p:cNvSpPr/>
          <p:nvPr/>
        </p:nvSpPr>
        <p:spPr>
          <a:xfrm>
            <a:off x="1905120" y="4572000"/>
            <a:ext cx="228600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te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34"/>
          <p:cNvSpPr/>
          <p:nvPr/>
        </p:nvSpPr>
        <p:spPr>
          <a:xfrm>
            <a:off x="1905120" y="5867280"/>
            <a:ext cx="236196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al Degree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h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5"/>
          <p:cNvSpPr/>
          <p:nvPr/>
        </p:nvSpPr>
        <p:spPr>
          <a:xfrm>
            <a:off x="4952880" y="1600200"/>
            <a:ext cx="3733920" cy="121932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Laboratory Technici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35-40,000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36"/>
          <p:cNvSpPr/>
          <p:nvPr/>
        </p:nvSpPr>
        <p:spPr>
          <a:xfrm>
            <a:off x="4952880" y="3581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Research Scienti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50-70,000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24" descr="MPj03210550000[1]"/>
          <p:cNvPicPr/>
          <p:nvPr/>
        </p:nvPicPr>
        <p:blipFill>
          <a:blip r:embed="rId2"/>
          <a:stretch/>
        </p:blipFill>
        <p:spPr>
          <a:xfrm>
            <a:off x="8305920" y="1752480"/>
            <a:ext cx="627120" cy="87804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51" name="Picture 18" descr="MPj04093970000[1]"/>
          <p:cNvPicPr/>
          <p:nvPr/>
        </p:nvPicPr>
        <p:blipFill>
          <a:blip r:embed="rId3"/>
          <a:stretch/>
        </p:blipFill>
        <p:spPr>
          <a:xfrm>
            <a:off x="8077320" y="3733920"/>
            <a:ext cx="838080" cy="838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2" name="Rectangle 37"/>
          <p:cNvSpPr/>
          <p:nvPr/>
        </p:nvSpPr>
        <p:spPr>
          <a:xfrm>
            <a:off x="4952880" y="4724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Laboratory Direc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65-100,000+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8"/>
          <p:cNvSpPr/>
          <p:nvPr/>
        </p:nvSpPr>
        <p:spPr>
          <a:xfrm>
            <a:off x="6858000" y="2819520"/>
            <a:ext cx="0" cy="609480"/>
          </a:xfrm>
          <a:prstGeom prst="line">
            <a:avLst/>
          </a:prstGeom>
          <a:ln w="7632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4952880" y="5867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Biotech Company C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100,000+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69343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c145"/>
                </a:solidFill>
                <a:latin typeface="Tahoma"/>
              </a:rPr>
              <a:t>More years of experi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3048120" y="403848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44"/>
          <p:cNvSpPr/>
          <p:nvPr/>
        </p:nvSpPr>
        <p:spPr>
          <a:xfrm>
            <a:off x="1295280" y="624852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3283560" y="54100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46"/>
          <p:cNvSpPr/>
          <p:nvPr/>
        </p:nvSpPr>
        <p:spPr>
          <a:xfrm>
            <a:off x="1295280" y="4038480"/>
            <a:ext cx="0" cy="221004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3276720" y="411480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48"/>
          <p:cNvSpPr/>
          <p:nvPr/>
        </p:nvSpPr>
        <p:spPr>
          <a:xfrm>
            <a:off x="1752480" y="182880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49"/>
          <p:cNvSpPr/>
          <p:nvPr/>
        </p:nvSpPr>
        <p:spPr>
          <a:xfrm>
            <a:off x="1752480" y="25909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50"/>
          <p:cNvSpPr/>
          <p:nvPr/>
        </p:nvSpPr>
        <p:spPr>
          <a:xfrm>
            <a:off x="914400" y="3657600"/>
            <a:ext cx="106668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1"/>
          <p:cNvSpPr/>
          <p:nvPr/>
        </p:nvSpPr>
        <p:spPr>
          <a:xfrm>
            <a:off x="914400" y="2743200"/>
            <a:ext cx="0" cy="91440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635040" y="3479760"/>
            <a:ext cx="79488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4-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4267080" y="5638320"/>
            <a:ext cx="609840" cy="6858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54"/>
          <p:cNvSpPr/>
          <p:nvPr/>
        </p:nvSpPr>
        <p:spPr>
          <a:xfrm>
            <a:off x="4267080" y="63244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55"/>
          <p:cNvSpPr/>
          <p:nvPr/>
        </p:nvSpPr>
        <p:spPr>
          <a:xfrm>
            <a:off x="4191120" y="51055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56"/>
          <p:cNvSpPr/>
          <p:nvPr/>
        </p:nvSpPr>
        <p:spPr>
          <a:xfrm>
            <a:off x="3048120" y="533412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57"/>
          <p:cNvSpPr/>
          <p:nvPr/>
        </p:nvSpPr>
        <p:spPr>
          <a:xfrm>
            <a:off x="918360" y="60958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Line 58"/>
          <p:cNvSpPr/>
          <p:nvPr/>
        </p:nvSpPr>
        <p:spPr>
          <a:xfrm flipH="1">
            <a:off x="1295280" y="40384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59"/>
          <p:cNvSpPr/>
          <p:nvPr/>
        </p:nvSpPr>
        <p:spPr>
          <a:xfrm>
            <a:off x="46494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Line 60"/>
          <p:cNvSpPr/>
          <p:nvPr/>
        </p:nvSpPr>
        <p:spPr>
          <a:xfrm flipV="1">
            <a:off x="4191120" y="4343040"/>
            <a:ext cx="685800" cy="76212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61"/>
          <p:cNvSpPr/>
          <p:nvPr/>
        </p:nvSpPr>
        <p:spPr>
          <a:xfrm>
            <a:off x="4649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Line 62"/>
          <p:cNvSpPr/>
          <p:nvPr/>
        </p:nvSpPr>
        <p:spPr>
          <a:xfrm>
            <a:off x="4267080" y="38098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63"/>
          <p:cNvSpPr/>
          <p:nvPr/>
        </p:nvSpPr>
        <p:spPr>
          <a:xfrm flipV="1">
            <a:off x="4267080" y="2971800"/>
            <a:ext cx="914400" cy="83808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64"/>
          <p:cNvSpPr/>
          <p:nvPr/>
        </p:nvSpPr>
        <p:spPr>
          <a:xfrm>
            <a:off x="495396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Line 65"/>
          <p:cNvSpPr/>
          <p:nvPr/>
        </p:nvSpPr>
        <p:spPr>
          <a:xfrm>
            <a:off x="4572000" y="259092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Line 66"/>
          <p:cNvSpPr/>
          <p:nvPr/>
        </p:nvSpPr>
        <p:spPr>
          <a:xfrm>
            <a:off x="4572000" y="182880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67"/>
          <p:cNvSpPr/>
          <p:nvPr/>
        </p:nvSpPr>
        <p:spPr>
          <a:xfrm>
            <a:off x="1905120" y="14479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68"/>
          <p:cNvSpPr/>
          <p:nvPr/>
        </p:nvSpPr>
        <p:spPr>
          <a:xfrm>
            <a:off x="1905120" y="220968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Line 43"/>
          <p:cNvSpPr/>
          <p:nvPr/>
        </p:nvSpPr>
        <p:spPr>
          <a:xfrm>
            <a:off x="2514600" y="281952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Text Box 68"/>
          <p:cNvSpPr/>
          <p:nvPr/>
        </p:nvSpPr>
        <p:spPr>
          <a:xfrm>
            <a:off x="1828800" y="28195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63"/>
          <p:cNvSpPr/>
          <p:nvPr/>
        </p:nvSpPr>
        <p:spPr>
          <a:xfrm flipV="1">
            <a:off x="4267080" y="2590560"/>
            <a:ext cx="1752840" cy="32763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Line 62"/>
          <p:cNvSpPr/>
          <p:nvPr/>
        </p:nvSpPr>
        <p:spPr>
          <a:xfrm flipV="1">
            <a:off x="4191120" y="2514240"/>
            <a:ext cx="1828800" cy="20574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ducation &amp; Training for 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areer in Life Science Academi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7" name="Picture 3" descr="MPj04317430000[1]"/>
          <p:cNvPicPr/>
          <p:nvPr/>
        </p:nvPicPr>
        <p:blipFill>
          <a:blip r:embed="rId1"/>
          <a:stretch/>
        </p:blipFill>
        <p:spPr>
          <a:xfrm>
            <a:off x="304920" y="380880"/>
            <a:ext cx="820440" cy="71460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8" name="Rectangle 4"/>
          <p:cNvSpPr/>
          <p:nvPr/>
        </p:nvSpPr>
        <p:spPr>
          <a:xfrm>
            <a:off x="228600" y="1600200"/>
            <a:ext cx="1523880" cy="11430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plo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514600" y="1447920"/>
            <a:ext cx="2057400" cy="53316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ege Certifica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2514600" y="2286000"/>
            <a:ext cx="2057400" cy="5335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ege AS Degre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1905120" y="3276720"/>
            <a:ext cx="2361960" cy="761760"/>
          </a:xfrm>
          <a:prstGeom prst="rect">
            <a:avLst/>
          </a:prstGeom>
          <a:solidFill>
            <a:srgbClr val="9966ff"/>
          </a:solid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helo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1905120" y="4572000"/>
            <a:ext cx="228600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te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1905120" y="5867280"/>
            <a:ext cx="236196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al Degree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h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5715000" y="1447920"/>
            <a:ext cx="251460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Laboratory Technici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35-45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4952880" y="304812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Research Scienti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70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13" descr="MPj04093970000[1]"/>
          <p:cNvPicPr/>
          <p:nvPr/>
        </p:nvPicPr>
        <p:blipFill>
          <a:blip r:embed="rId2"/>
          <a:stretch/>
        </p:blipFill>
        <p:spPr>
          <a:xfrm>
            <a:off x="8077320" y="1143000"/>
            <a:ext cx="838080" cy="838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97" name="Rectangle 14"/>
          <p:cNvSpPr/>
          <p:nvPr/>
        </p:nvSpPr>
        <p:spPr>
          <a:xfrm>
            <a:off x="4952880" y="533412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University Professor/Administrat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10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4267080" y="3276720"/>
            <a:ext cx="609840" cy="0"/>
          </a:xfrm>
          <a:prstGeom prst="line">
            <a:avLst/>
          </a:prstGeom>
          <a:ln w="5724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952880" y="6095880"/>
            <a:ext cx="4038840" cy="6098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Post-doctoral Researcher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temporar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0-5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971800" y="4038480"/>
            <a:ext cx="0" cy="45720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1295280" y="6248520"/>
            <a:ext cx="53352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3285360" y="54100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1295280" y="4038480"/>
            <a:ext cx="0" cy="22100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3276720" y="411480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3"/>
          <p:cNvSpPr/>
          <p:nvPr/>
        </p:nvSpPr>
        <p:spPr>
          <a:xfrm>
            <a:off x="1752480" y="19051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Line 24"/>
          <p:cNvSpPr/>
          <p:nvPr/>
        </p:nvSpPr>
        <p:spPr>
          <a:xfrm>
            <a:off x="1752480" y="266688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Line 25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Line 26"/>
          <p:cNvSpPr/>
          <p:nvPr/>
        </p:nvSpPr>
        <p:spPr>
          <a:xfrm>
            <a:off x="914400" y="2743200"/>
            <a:ext cx="0" cy="91440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635040" y="3479760"/>
            <a:ext cx="79488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4-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Line 28"/>
          <p:cNvSpPr/>
          <p:nvPr/>
        </p:nvSpPr>
        <p:spPr>
          <a:xfrm flipV="1">
            <a:off x="4267080" y="3428640"/>
            <a:ext cx="685800" cy="2438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Line 31"/>
          <p:cNvSpPr/>
          <p:nvPr/>
        </p:nvSpPr>
        <p:spPr>
          <a:xfrm>
            <a:off x="2971800" y="5334120"/>
            <a:ext cx="0" cy="4572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918360" y="60958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Line 33"/>
          <p:cNvSpPr/>
          <p:nvPr/>
        </p:nvSpPr>
        <p:spPr>
          <a:xfrm flipH="1">
            <a:off x="1295280" y="4038480"/>
            <a:ext cx="609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Line 35"/>
          <p:cNvSpPr/>
          <p:nvPr/>
        </p:nvSpPr>
        <p:spPr>
          <a:xfrm flipV="1">
            <a:off x="4191120" y="3352320"/>
            <a:ext cx="685800" cy="121932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Line 38"/>
          <p:cNvSpPr/>
          <p:nvPr/>
        </p:nvSpPr>
        <p:spPr>
          <a:xfrm flipV="1">
            <a:off x="4267080" y="2437920"/>
            <a:ext cx="1752840" cy="8384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Text Box 42"/>
          <p:cNvSpPr/>
          <p:nvPr/>
        </p:nvSpPr>
        <p:spPr>
          <a:xfrm>
            <a:off x="1905120" y="14479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3"/>
          <p:cNvSpPr/>
          <p:nvPr/>
        </p:nvSpPr>
        <p:spPr>
          <a:xfrm>
            <a:off x="1905120" y="220968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Line 45"/>
          <p:cNvSpPr/>
          <p:nvPr/>
        </p:nvSpPr>
        <p:spPr>
          <a:xfrm>
            <a:off x="4343400" y="5867280"/>
            <a:ext cx="609480" cy="5335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4952880" y="3809880"/>
            <a:ext cx="4038840" cy="6098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Adjunct Faculty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temporar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0-5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48"/>
          <p:cNvSpPr/>
          <p:nvPr/>
        </p:nvSpPr>
        <p:spPr>
          <a:xfrm>
            <a:off x="4952880" y="457200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Community College Professor/Administra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10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Line 49"/>
          <p:cNvSpPr/>
          <p:nvPr/>
        </p:nvSpPr>
        <p:spPr>
          <a:xfrm flipV="1">
            <a:off x="4572000" y="1752480"/>
            <a:ext cx="1143000" cy="53352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Line 50"/>
          <p:cNvSpPr/>
          <p:nvPr/>
        </p:nvSpPr>
        <p:spPr>
          <a:xfrm>
            <a:off x="4572000" y="1447920"/>
            <a:ext cx="1066680" cy="22860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Line 51"/>
          <p:cNvSpPr/>
          <p:nvPr/>
        </p:nvSpPr>
        <p:spPr>
          <a:xfrm flipV="1">
            <a:off x="4191120" y="4114800"/>
            <a:ext cx="761760" cy="4572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Line 52"/>
          <p:cNvSpPr/>
          <p:nvPr/>
        </p:nvSpPr>
        <p:spPr>
          <a:xfrm>
            <a:off x="4191120" y="4572000"/>
            <a:ext cx="761760" cy="30492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53"/>
          <p:cNvSpPr/>
          <p:nvPr/>
        </p:nvSpPr>
        <p:spPr>
          <a:xfrm flipV="1">
            <a:off x="4343400" y="4190760"/>
            <a:ext cx="609480" cy="1600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54"/>
          <p:cNvSpPr/>
          <p:nvPr/>
        </p:nvSpPr>
        <p:spPr>
          <a:xfrm flipV="1">
            <a:off x="4267080" y="5029200"/>
            <a:ext cx="6858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55"/>
          <p:cNvSpPr/>
          <p:nvPr/>
        </p:nvSpPr>
        <p:spPr>
          <a:xfrm flipV="1">
            <a:off x="4267080" y="5562720"/>
            <a:ext cx="685800" cy="3045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57"/>
          <p:cNvSpPr/>
          <p:nvPr/>
        </p:nvSpPr>
        <p:spPr>
          <a:xfrm>
            <a:off x="7391520" y="2209680"/>
            <a:ext cx="1600200" cy="68580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K-12 Teach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5-70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58"/>
          <p:cNvSpPr/>
          <p:nvPr/>
        </p:nvSpPr>
        <p:spPr>
          <a:xfrm flipV="1">
            <a:off x="4267080" y="1828800"/>
            <a:ext cx="1447920" cy="144792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59"/>
          <p:cNvSpPr/>
          <p:nvPr/>
        </p:nvSpPr>
        <p:spPr>
          <a:xfrm>
            <a:off x="6095880" y="2209680"/>
            <a:ext cx="99072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-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redential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60"/>
          <p:cNvSpPr/>
          <p:nvPr/>
        </p:nvSpPr>
        <p:spPr>
          <a:xfrm>
            <a:off x="7086600" y="259092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61"/>
          <p:cNvSpPr/>
          <p:nvPr/>
        </p:nvSpPr>
        <p:spPr>
          <a:xfrm>
            <a:off x="5105520" y="259092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Line 18"/>
          <p:cNvSpPr/>
          <p:nvPr/>
        </p:nvSpPr>
        <p:spPr>
          <a:xfrm>
            <a:off x="2514600" y="2819520"/>
            <a:ext cx="0" cy="45720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1752480" y="28195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solidFill>
            <a:srgbClr val="9966ff"/>
          </a:solidFill>
          <a:ln w="28440">
            <a:solidFill>
              <a:srgbClr val="5b5d6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oft Skills” are Critical for Career Succe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a1"/>
                </a:solidFill>
                <a:latin typeface="Arial"/>
              </a:rPr>
              <a:t>Your </a:t>
            </a:r>
            <a:r>
              <a:rPr b="1" i="1" lang="en-US" sz="2000" spc="-1" strike="noStrike" u="sng">
                <a:solidFill>
                  <a:srgbClr val="ffffa1"/>
                </a:solidFill>
                <a:uFillTx/>
                <a:latin typeface="Arial"/>
              </a:rPr>
              <a:t>academic qualifications</a:t>
            </a:r>
            <a:r>
              <a:rPr b="1" i="1" lang="en-US" sz="2000" spc="-1" strike="noStrike">
                <a:solidFill>
                  <a:srgbClr val="ffffa1"/>
                </a:solidFill>
                <a:latin typeface="Arial"/>
              </a:rPr>
              <a:t> might get you an interview, but to get and keep a job, you need these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“soft skills”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Before the interview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Resume </a:t>
            </a:r>
            <a:r>
              <a:rPr b="0" lang="en-US" sz="1800" spc="-1" strike="noStrike">
                <a:solidFill>
                  <a:srgbClr val="a3c8d1"/>
                </a:solidFill>
                <a:latin typeface="Arial"/>
              </a:rPr>
              <a:t>(easy to read, accurate, concise, person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over letter </a:t>
            </a:r>
            <a:r>
              <a:rPr b="0" lang="en-US" sz="1800" spc="-1" strike="noStrike">
                <a:solidFill>
                  <a:srgbClr val="a3c8d1"/>
                </a:solidFill>
                <a:latin typeface="Arial"/>
              </a:rPr>
              <a:t>(perfect grammar/spelling, expresses your desire for the job, elaborates on your personal qualifications and life experiences that make you the “best” candida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Phone and email etiquet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During the interview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Firm handsh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Good mann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Appropriate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lear communica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5105520" y="4495680"/>
            <a:ext cx="3733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On the job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Team pla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lear communica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ritical think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Ethical, reliable &amp; respons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Follows protocols/dire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solidFill>
            <a:srgbClr val="9966ff"/>
          </a:solidFill>
          <a:ln w="28440">
            <a:solidFill>
              <a:srgbClr val="5b5d6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What Path Should You Follow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5" descr="MCj03343080000[1]"/>
          <p:cNvPicPr/>
          <p:nvPr/>
        </p:nvPicPr>
        <p:blipFill>
          <a:blip r:embed="rId1"/>
          <a:stretch/>
        </p:blipFill>
        <p:spPr>
          <a:xfrm>
            <a:off x="2514600" y="1905120"/>
            <a:ext cx="42512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It’s OK not to know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6477120" y="22860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7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What do YOU want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88390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What do YOU like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04920" y="304920"/>
            <a:ext cx="8458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73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Always Learn More…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6915240" y="42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My Day…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257800" y="4605480"/>
            <a:ext cx="3886200" cy="2252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2627280" cy="26672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521080" cy="3809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0" y="4427640"/>
            <a:ext cx="2971800" cy="24303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867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Researching and Plan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397560" y="41292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Helping Stud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2590920" y="1371600"/>
            <a:ext cx="3962160" cy="3289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767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-228600" y="3735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Meetings/Con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714760" y="557064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582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Train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332320" y="3998880"/>
            <a:ext cx="3811680" cy="2859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304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Wallwis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Blogs and Wik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332320" y="1143000"/>
            <a:ext cx="3811680" cy="2860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3811680" cy="2859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733920" y="16002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tel Tea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3886200"/>
            <a:ext cx="16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Peer Co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a3c145"/>
                </a:solidFill>
                <a:uFillTx/>
                <a:latin typeface="Tahoma"/>
              </a:rPr>
              <a:t>The JASON Proj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651204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779480"/>
            <a:ext cx="88520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Create the “Spar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Keep students eng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Stimulate self-motivated achie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6" descr="National Geographic"/>
          <p:cNvPicPr/>
          <p:nvPr/>
        </p:nvPicPr>
        <p:blipFill>
          <a:blip r:embed="rId4"/>
          <a:stretch/>
        </p:blipFill>
        <p:spPr>
          <a:xfrm>
            <a:off x="1143000" y="505476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5" descr="noaa-logo"/>
          <p:cNvPicPr/>
          <p:nvPr/>
        </p:nvPicPr>
        <p:blipFill>
          <a:blip r:embed="rId5"/>
          <a:stretch/>
        </p:blipFill>
        <p:spPr>
          <a:xfrm>
            <a:off x="2895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logo nasa"/>
          <p:cNvPicPr/>
          <p:nvPr/>
        </p:nvPicPr>
        <p:blipFill>
          <a:blip r:embed="rId6"/>
          <a:stretch/>
        </p:blipFill>
        <p:spPr>
          <a:xfrm>
            <a:off x="3886200" y="4876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02920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rcRect l="9866" t="10237" r="7987" b="9669"/>
          <a:stretch/>
        </p:blipFill>
        <p:spPr>
          <a:xfrm>
            <a:off x="5867280" y="4935600"/>
            <a:ext cx="762120" cy="612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6858000" y="4952880"/>
            <a:ext cx="9907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0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6:49:38Z</dcterms:created>
  <dc:creator>d</dc:creator>
  <dc:description/>
  <dc:language>en-US</dc:language>
  <cp:lastModifiedBy>Ann Lumm</cp:lastModifiedBy>
  <dcterms:modified xsi:type="dcterms:W3CDTF">2010-05-19T05:16:35Z</dcterms:modified>
  <cp:revision>87</cp:revision>
  <dc:subject/>
  <dc:title>Einstein Middle School Career Day</dc:title>
</cp:coreProperties>
</file>